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21F-7125-4D87-B4C6-2E142ED0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7EA-73AC-429A-8F11-B99EC2D6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B44-218C-41AC-B4A0-3A0A6D44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FBC-EC46-4103-A79E-F967E6F0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4C1-5943-41F7-B89A-7D02542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214-8EC6-4666-A404-32F88FA2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ECC-EAF2-4CAC-B0FC-D2F2FD69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9B1-5C69-46F7-BC00-549EF824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DC7-5B85-4B20-AE4C-76E5EDB6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14C-9CD7-48DB-9F71-E57CF366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088-7C6E-4032-9B61-F7E82865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288-FF35-44D6-ADE1-366B9B55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0E2-AC59-451C-A06E-3947E2A50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Jorge Aravena</cp:lastModifiedBy>
  <cp:lastPrinted>2000-11-17T12:11:06Z</cp:lastPrinted>
  <dcterms:modified xsi:type="dcterms:W3CDTF">2004-08-20T19:31:53Z</dcterms:modified>
  <cp:revision>27</cp:revision>
  <dc:subject/>
  <dc:title>No Slide Title</dc:title>
</cp:coreProperties>
</file>